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CAC-97B6-4A3E-928A-2DB47B20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82F-07DE-4C3A-BD20-6CBAEEF0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947-35F3-4F30-A57E-91346BC3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EA1-9F84-43A5-9B65-7F5E1A09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D63-B42F-42D4-BC8A-B7065F78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C5CD-C01E-46D7-92B3-A591E08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4F5-3521-4E9D-ABCF-3816DC1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F847-9C73-4309-A39F-46B6901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6004-9DB0-46D2-8CEC-CE76948C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D6D2-522E-43D6-BFA6-B8FE16B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9034-DEFB-4684-9C37-426F625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85F-53CD-4D0A-B575-A228ADBD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9E1A-D8C3-4B68-A268-979D172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79FA-88B2-477E-9867-CC9CECA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D462-9850-46DD-9AF5-3CE5241E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6C5-9456-450E-850E-ADFED078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543C-1021-4BDB-8BD8-7F8AECD7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2ED-346C-46AE-A329-B0027660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BB1-A065-4646-84F3-F2C5914E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A1B-8690-42E1-B38C-ED403DA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F3B-75AA-4E51-8E95-1A7F39B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E6F-CE7D-4E9A-B719-1D2A8AF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4C5-ABC1-4AD2-83BA-7A4189CC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75F-512A-4071-8E77-598CB9F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0A6-FAAB-4F3A-9DB4-C6E7F769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10F-6467-4A15-ADB2-0E0CF607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know this stuff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quizzed on this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core at least 80% or you will not be allowed in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afety is dependent on thes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What brand of chewing gum is allowed in the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Double-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S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Winter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Gum is not allowed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What should you do if you spill a chem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ell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rab some paper towels and clea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Dilute the spill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When should you wear gog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Everytime you are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Only when chemicals are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Only when burning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Never, who needs eye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True or False: Flip Flops are appropriate shoes for l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True or False: It is okay to have a bottle of water in the lab, but only if you keep it away from your work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10160" y="1744560"/>
            <a:ext cx="4228920" cy="473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43800" y="57913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735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2917800"/>
            <a:ext cx="36576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87800" y="2557440"/>
            <a:ext cx="2960640" cy="3767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76920" y="58672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10160" y="3392640"/>
            <a:ext cx="422892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ral R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enter the lab without a teacher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ouch anything without instructions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work area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enter the storage area…this area is for teachers ONL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re General R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eat or drink anything in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perform unauthoriz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orse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ALL verbal and written instructions from the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othing R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wear goggles during any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ear contact lenses in the lab without permission from the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ose clothing, jewelry, hai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wear open toed shoes in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ns should be worn during all experiments unless told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cid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any accident to the teacher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splashes in your eye, immediately go to the eye wash station. Your lab partner should instruct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touch a broken mercury 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pill anything, let the teacher clean it up; do not clean it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ndling Chemic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emicals should be considered dangero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mell, touch, or eat any lab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return unused chemicals to the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spense flammable liquids near open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should be given extra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dd acid to water for di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Lab Equip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89160" y="1676520"/>
            <a:ext cx="210816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11920" y="1676520"/>
            <a:ext cx="1623960" cy="236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2362320" cy="223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977080" y="4419720"/>
            <a:ext cx="1495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Lab Equip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14440" y="1676520"/>
            <a:ext cx="1855800" cy="236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10160" y="2135160"/>
            <a:ext cx="4228920" cy="144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00040" y="4191120"/>
            <a:ext cx="36846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533920" y="4552920"/>
            <a:ext cx="23814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Lab Equip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47640" y="2128680"/>
            <a:ext cx="1590840" cy="145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41880" y="1676520"/>
            <a:ext cx="136548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857240" y="4776840"/>
            <a:ext cx="97164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734080" y="4824360"/>
            <a:ext cx="1981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0:51:55Z</dcterms:created>
  <dc:creator>Adam's Homepage</dc:creator>
  <dc:description/>
  <dc:language>en-US</dc:language>
  <cp:lastModifiedBy>Adam's Homepage</cp:lastModifiedBy>
  <dcterms:modified xsi:type="dcterms:W3CDTF">2008-07-14T01:52:05Z</dcterms:modified>
  <cp:revision>3</cp:revision>
  <dc:subject/>
  <dc:title>Laboratory Safety</dc:title>
</cp:coreProperties>
</file>